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5320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4936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05704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45320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4936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040" y="6629040"/>
            <a:ext cx="7086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4d4d4d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Viterbi School of Engineering       .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0"/>
            <a:ext cx="7010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0"/>
            <a:ext cx="7086600" cy="244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057400" cy="24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Times New Roman"/>
              </a:rPr>
              <a:t>U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0"/>
            <a:ext cx="72388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629400"/>
            <a:ext cx="2057400" cy="2286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2057400" cy="14032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 flipV="1">
            <a:off x="906480" y="60480"/>
            <a:ext cx="2332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8858160" y="6648480"/>
            <a:ext cx="196920" cy="193680"/>
            <a:chOff x="8858160" y="6648480"/>
            <a:chExt cx="196920" cy="193680"/>
          </a:xfrm>
        </p:grpSpPr>
        <p:sp>
          <p:nvSpPr>
            <p:cNvPr id="11" name=""/>
            <p:cNvSpPr/>
            <p:nvPr/>
          </p:nvSpPr>
          <p:spPr>
            <a:xfrm>
              <a:off x="8858160" y="6648480"/>
              <a:ext cx="19692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9560" y="6648480"/>
              <a:ext cx="76320" cy="18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8966160" y="6689880"/>
              <a:ext cx="7632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1752480"/>
          <a:ext cx="6224760" cy="479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22476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057400" y="228600"/>
            <a:ext cx="708660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lection from English Language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08360" y="762120"/>
            <a:ext cx="453564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723888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vernment Laborator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828800"/>
            <a:ext cx="8915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30000"/>
              </a:lnSpc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ASA / JPL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supporting a current project on Lunar constr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30000"/>
              </a:lnSpc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Office of Naval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Research (past support of projects on fabrication of large free form structures &amp; PZT actua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30000"/>
              </a:lnSpc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U.S. Army Const. Eng. Res. Lab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will be supporting a scoping project for personnel buildings, barra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30000"/>
              </a:lnSpc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Air Force Research Laboratorie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considering support for automated and rapid construction of group protection shel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ACaslon ItalicO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Caslon ItalicO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06216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294624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lection from Foreign Language Pres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981080"/>
          <a:ext cx="6453360" cy="32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6453360" cy="32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730760" y="838080"/>
            <a:ext cx="44719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3200040"/>
            <a:ext cx="723924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ressions of Interest and Suppor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98760" y="1676520"/>
            <a:ext cx="70102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Degussa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Maxi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CE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Elo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USGyps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Laf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Povazska Cementaren (PC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Hi-Tech Environmental Products, 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Bexel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European Cement Research Academy (EC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German Concrete Research Academy (VD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228600"/>
            <a:ext cx="708660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truction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40080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53960" y="1973160"/>
            <a:ext cx="328140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Tutor Sali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arsons Construction,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ech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JF Shea 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athaway Dinwiddie Construction 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winerton Buil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oeing (Space Construc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URBI Desarollos Urb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Grupo Coyser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65320" y="1973160"/>
            <a:ext cx="328140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bitat for Huma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ICH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iatech Lim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etro Constructio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.A. Mortenson 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Krump Construction,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OST Construction 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ORR Aktiengesellsch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33720" y="1371600"/>
            <a:ext cx="3659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G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Gehry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Cal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R&amp;Sie Architects (F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Bahaus (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Davis Brody Bond, 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Pei Cobb Freed &amp;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Mor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GreenbergFarrow Archit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RedPump L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proc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B Frutiger Bold"/>
              </a:rPr>
              <a:t>A&amp;G Develo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228600"/>
            <a:ext cx="617220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ther Industr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680" y="1371240"/>
            <a:ext cx="518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2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Arial"/>
              </a:rPr>
              <a:t>Equi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iem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John De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aterpi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arker Hannif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himizu (Mitsubishi Heavy Equip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ioneer Concrete Pum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Arial"/>
              </a:rPr>
              <a:t>Real Est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onAm Management Corp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Lambert Smith Hamp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ellenic Balcanian Holdings 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uperior Real Estate,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1:21:45Z</dcterms:created>
  <dc:creator> Berok</dc:creator>
  <dc:description/>
  <dc:language>en-US</dc:language>
  <cp:lastModifiedBy> Berok</cp:lastModifiedBy>
  <dcterms:modified xsi:type="dcterms:W3CDTF">2005-05-25T21:30:30Z</dcterms:modified>
  <cp:revision>2</cp:revision>
  <dc:subject/>
  <dc:title>Slide 1</dc:title>
</cp:coreProperties>
</file>